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5A3-FFC0-44B3-B419-19886064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0B0-3F6C-4C7A-9AFC-B17D5667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61F65-4562-4C72-9650-6A4D217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A2DFB-847D-4AC9-AF10-FCEBEC37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2C555-D581-4DC2-8F77-0103EB2D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AF2A6-4D00-4D24-A579-F64C9DA0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D0FE6-E38C-44D5-8535-F05AEE2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1573F-CA24-450C-8371-545AF9E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4841C-2964-4A08-837C-88891846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B7946-DB86-4FF8-8D74-B3C4E2B2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2D99C-A730-4C0C-9053-2CC2094F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3BD8D-1E9E-444A-AB6C-E1DE10C9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1C7-DB29-42E5-AD0A-A6D7EF41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DDB03-D6AF-47C0-8849-540F6F80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9137F-8953-4A80-B928-C8F7618D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3E3ED-7D40-4E8C-8047-BB92C1FC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120E1-2457-4C7D-8AE2-FA009B18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87AD9-7366-42A5-B96C-C6B51CEE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F521E-C135-42EB-92CA-703153B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473C5-F4FA-48BC-8A65-205D0089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6F1E7-9DAF-4483-A6D1-31FC2D0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D7BE9-0C51-4350-9B4C-ACA51A2F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7F718-E0AA-4ECF-BE76-EF33026E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D18-60EB-4524-97C8-ADB65D41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DD1CC-83B9-4429-B6B2-D7F97D3F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C8313-B22D-4094-B0F2-1120B3D3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C39DA-4F02-47CA-8E69-1E4A09DC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1429B-3E07-4DE7-BA46-8C5141BD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ACD21-8CCA-4BED-B1B2-E746BDBC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09048-0938-48BF-93EC-E0DB97B4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AFA1E-04EF-4255-BFF1-EC073A92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6280-4A88-4061-AF17-D21D5B47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F5540-D609-41B6-9B3B-427BB9AB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271C1-E9FA-463A-BE02-3310BCE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80C7-F4CA-4324-806B-3F845229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A589-92E7-4DC9-92BF-1EAE36DC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D30A1-F214-45DE-AE7E-8B0D8D72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0DFA4-626F-4482-A05B-BA24FE05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CC8E9-CA09-4465-8BE6-F71278CF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44CAA-391F-46A7-A812-0E9B02E8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A8B81-DAF0-42B3-B9FC-9E827D23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CD6F9-EFD0-44B7-90A9-A7FD45AE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3633E-DC22-49B4-A0FC-18723E20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219F3-37D8-40CA-B401-768F323A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D6F01-593D-4E46-BE9E-719C0FAB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8414-D637-467D-A3A1-3E71E5E1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6F520-DCD6-4D3C-BB95-2733C8F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CD10D-C9B2-417A-A2E0-B34C781D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32BD2-EBDC-4EAF-B132-825A5568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599D8-5827-4757-953A-9A9D8700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D2E1E-4060-4176-B2B1-D9DB0A4B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0A504-0191-4013-8DFD-2B5EACD3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39004-71FD-494F-8DB4-900976F3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18260-89B2-409A-B9FD-AB688809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C31F1-FB91-4DC3-8835-83188D5F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6ADDF-B973-4248-AC9A-546D42C1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1F99-DB65-4EDE-9C94-B0BCC34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20D9D-3D05-4C90-9926-7E71D4FC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89B97-B6E0-4C7B-B14C-FC224D0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BC23E-440F-48E5-A34B-C9BC12A5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3C2C8-8A7D-4995-8A76-0298C23A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472A7-9191-43E4-9FCF-ADE1005E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2A20B-E67C-42A8-A022-0F4DE7CB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B32EB-6D4A-4ABF-BB46-D6BDE211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5D0DD-CFED-4CC5-B585-F04962FB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E82C4-D17F-4E54-B6B3-D7D943C6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5CA6F-14CB-4718-B40A-0B09F5BB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F328-1464-4BF7-ADA2-4EDB7CD7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30057-BAD5-4E68-9FA7-31C8209A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ADE5F-0EDE-47C4-99CC-5B36CDA2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F825D-D877-43FC-AF0B-4102FAB9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C9DEC-85B0-46DC-B114-F9900EC4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9EEDC-6DF9-4ADC-B36B-C0D9578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631F1-16B0-4F6D-B70C-6EE9E1D8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A9050-715D-41AD-B487-B98E9C0D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68B92-795F-4E1A-8A34-2B9B0E91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B9A6A-7E12-4B03-B59B-0125C7F3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46984-38ED-4DFD-BC4D-9A04B1E1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9B0D-B600-4310-8BBD-39BC4166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6E5EE-243A-405A-BE72-B1458AD3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62028-65AB-469A-A20F-728B5871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60BF9-BAC3-4111-BE9A-70118992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E2A11-D812-4BE1-B128-A466A088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A289E-674C-4FDF-83DA-CD91655A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6A530-095E-4D5D-BEF5-E1B736A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4A346-A37E-4775-9D32-6695ADCE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49510-8701-4614-B6AD-E02871B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40432-8784-46C3-908A-BD32CE81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45816-9B6B-481B-940A-2C75A0EE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45E2-E8E9-440A-AB80-13FB2166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7D189-66E8-405C-8683-DDD779A6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D7E48-EDBC-47BE-9F1A-4FF0B492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6A025-2241-4B57-818E-68C56A88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6973E-715F-499D-AACC-2F469778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80E2F-209B-4457-AB35-9E0972D1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027C9-B766-4D29-A077-DD590D3A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C5DF7-6EFE-4449-AB49-569D0559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0C802-FFAB-421F-B9CC-21F00B05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313EB-6B9C-4BED-B93B-85B0E003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E1090-C102-42FB-A5C4-60F952C1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224A-F2C8-4641-93B4-4632CE1B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88E35E-D471-4E26-87A2-55D7927F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3531B-D2AE-4869-A2D1-F75B27C1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01532-4A36-4ABB-AD2E-340C0B27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0FB90-9272-46C9-A9E4-2AF2C703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466C9-6D9D-43BC-B7F9-9A36273E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2DFF3-4AFE-4B32-ACC8-68C4AD03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8ED35-A37A-4F2C-AD47-04738E7D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0B0F3-1DBF-41AA-B2B3-4556BE63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B135E-25B1-4F85-9A6D-C7DC5C83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537D2-6A16-43BC-956E-F99EEA9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375-6E70-404A-94B3-10FB42AD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F63A-2753-4CF3-AF7A-09E46C82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BBA02-5EC6-458B-89CA-BD43353D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A75D3-237B-4C81-B69A-56BDC14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8C4F2-543B-4CF0-A00B-C5637094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92018-158D-4BF1-B032-A1BBBF63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066A2-CE70-462E-9ED3-16817896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567F19-89FE-4C6D-A323-F4772B46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050F58-6374-4288-894C-EE0EA5EE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CB28E-249A-4FD6-BCD0-97CF81A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24ECF-2D24-4AD2-9EDC-F771B74F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8F96D-7988-438F-81A1-4F002141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EB50-7B14-414E-8772-D5ECF79A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F7BB7-9142-4547-BC56-8E5C755B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DE0A9-4EA3-4AAF-BD80-1CEE9AE8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37BF5-7FE7-444C-9FC0-D4AD62C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BD6AE-AC6D-4998-92A5-FEEA1BF1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20EFE-CBCD-4072-9047-EAEDD49A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36BB3-126E-43CE-872F-C41F9CE1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C0DC5-3DA3-4065-ABEA-9CC80143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AEB24E-54BA-401B-9466-C2B050DC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E792F-97F4-417D-BD52-3736496C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DC006-BD7A-4457-905D-F1D15399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AF9F-F5E1-4F91-B0B0-F535107E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CA9D9-8FAE-46F4-8CEE-BCDB376D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A5B13-6CB0-4BC1-900A-817022AD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A2D518-D2BE-4FFA-80D3-03D9D7FF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A4B62-63ED-4AF9-BC6D-86D9DDEB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B119F2-0241-4F09-B2A0-7D72F67D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B53DE-E45F-4F6F-9663-3B3039B5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968C4-E8B7-4096-A594-3DACE6C5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A0335-A157-4E25-AF7A-493A3675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FABD94-3610-492B-9487-BFA7E177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469815-F90A-4788-9FCD-5CC893FD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E644-6D53-43C0-83F5-2C6B09D6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3A475F-2CFD-4C00-B5B4-C10C617D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A01D5-BBA3-4C30-8B1D-3F60D386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207466-8D01-4488-A5F8-0F7D2208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79DE1-B09D-489F-B7AB-91B881EC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121AC-55C2-480C-9EEB-86DDF300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5F7EB-0109-4106-8D4C-420265F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E3E93-ABBB-44E6-AB17-23173870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57C15A-A2ED-481E-871E-CE6780F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3E4B0F-BBBC-431C-AE9C-58229438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ECFD19-AE7E-4332-9406-338F8E82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3F7F-4962-4D62-B023-851E1F3E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89471-4D19-42B4-B055-60F6E183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25B09-C9AF-46BC-9450-BB05F9E9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560232-DD36-4C08-A138-12AF09E8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45CB91-7397-471B-A007-B1FA726C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7992C-4112-444B-9D40-243D83DF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866730-3398-4D10-BFDD-A07292C1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DE13A3-A0E1-44C4-AB8A-C64C87E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844BE7-6E74-4C8A-8E46-08856C44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B5EF39-7714-46C2-B83F-76955C5C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DAE70B-FC21-4B90-9E63-F83CB41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FC81-99E9-48FA-A66D-422F8E4C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39953A-24F1-4B71-8E70-67067BD1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7EDC99-1F75-4B87-A5D3-FEB2DEEC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FFCBD-1F15-4DB1-BDBB-B64AE1EB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C992-4978-4F91-AC7B-8E02BCB2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4F53-6A16-40B1-915A-A907EF8B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4AA8-487B-4748-B9D9-060EAC9C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0649-D86D-424E-906E-9A075483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2AF-0CC1-4439-B273-580ADBE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5A24-A4BD-43D8-B7D0-4DC7D1A8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FA8F-2B42-4BE7-BDDD-82A4156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F33E-5899-4D82-884D-99AFAC61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7FCD-58DF-4AD1-BA2F-685BCEA9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22C2-B57C-43C0-8387-9F8C4995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C21E-01A6-4B4B-9414-2D29AEA6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5449-DEB2-4192-BB54-84C2012D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4969-69BE-4416-A072-95D12E79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F3F72-A7FB-4585-8809-2482332A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3ED7-C00D-44CD-BC49-3A9FB76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0A2-341E-43E9-8ED7-E2CD6EC0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9B23-ACE0-43FD-8A52-09381ABA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25385-BA08-4F00-A1AD-35071F18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22BEA-E95C-469A-BB00-45F9F4D5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91CE-B42D-407A-8F09-8F8CC03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60ADB-7EBC-48E6-88B3-68F01B3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3624-A157-4B5B-8989-A2C9690B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F195-DEC6-4450-9869-D7461647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AE50-6C47-4C61-95C4-D58A12DD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206C-6E5C-4884-9D46-4CE59E96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5073F-2618-4FE1-89A1-CD34BCDC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502-CDA9-4D06-A619-03D7E9B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C2B4D-CB61-4100-87C6-018E12FC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403DD-954F-4ABC-B29A-E3660E0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A59B6-A591-4C7D-9E65-F3FEF429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37F4-4F2F-44AA-9EF2-1052B253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5A8C-66FD-42EE-89F4-799C1B89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E0257-C3A2-4FD9-A563-0389C708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321B3-DA6E-46C5-AA88-5E94411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DD0E-0C8E-42B5-B9A4-F0E8F20B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C671-E332-4A28-B3D4-B82FE43F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A486-881C-4D9D-9BEB-0E730181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DEB-2656-4854-9842-FDA944EC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3881-1BFA-4227-8B3F-8560BCCB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C698A-A7E9-4E89-BC08-F1AD7C21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2838-4CB2-481B-83FE-C0D5255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BE32F-3C1A-4E78-B078-4C72BAF7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3121-AEBF-460F-9C05-5F114132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8A16-B00E-4C9F-8A3F-B6BE5C1C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29655-DB56-4858-8995-43EBB64A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11968-50A2-4B61-9052-D255BBD8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A99C8-75C5-4BD4-A642-0C4A498E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B1D4-6D19-4C94-8607-211AE23E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FD8-BC6E-42EF-91C5-8AE451AA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DBFCD-76C8-4492-A4FC-630FADBC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2D530-EACB-4DAB-A50F-ADEBF8E8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89BE8-C011-47C2-A261-E831ABC6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5E911-6179-4857-9048-D7D36826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C6A8C-A9AC-4B3B-AAB6-BF313531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695B4-4E87-49FA-B75E-0F7D9444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31A83-BF20-4D9A-BB57-1D4B4F9A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729D8-61E6-42A1-9C33-1A8E5D5A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01DC3-A5A6-46FE-B2DC-FFA01B5D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FDF22-F2AE-4373-8F8E-3A69B034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D96-F0A9-43D0-AC97-556B0B31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4DA43-0BA5-47C9-B912-DF9B284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E59C4-4654-4BA6-BF8B-E15A7F2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299D-B4DE-45DA-91BC-36818001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34C9-5260-4B76-B3FD-DAE1634F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5C88D-54B5-4969-A84F-5CB01A42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4E127-0905-434B-9A3B-2C90C95D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71CA7-F88E-448C-924E-1D63BE59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951BA-B005-4B6E-A532-73864132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60AC1-C73E-48AF-8A98-30E9803B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C130F-E0DE-4A5A-AAB8-76161F92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4D9-CF14-424C-9E2D-467BED8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602AB-1691-4669-9E8E-E7F96A9B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00533-FF0C-4167-A2F8-7723AB33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56832-2451-40D6-8D9B-1EABE93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42A0-9D5F-4FA0-BF34-96CA219A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2441F-4A58-4173-92F4-CFEA3E0C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9BCA2-08CE-47F7-9112-63A9799D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4D304-809F-4E5E-BA37-9B3F70DF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1E329-B083-4664-A290-D597F13E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ECD93-174F-4594-BBE1-2DE69032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35F67-9560-4550-BECC-B4F3AC28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598A-DEA9-445A-91A4-32E24E3B74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662-ED65-4DBA-ACB6-51A939D572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6166-6375-42B0-8EA3-0A74F3953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D1DA-5D85-437F-88B3-B926FFE861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9DE5-F705-4514-8AB9-CCBD176C4E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E452-C5E8-4B42-BB91-0C1660961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0D05-0B64-4022-A079-8A969762D8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3504-DED1-4582-9238-4FF7CF663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E40E-1952-4FA0-9FCB-FCB1C32BA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E72D-89A2-47B1-B885-60288F133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7BA3-D789-4E8E-ACD7-87643CE7B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646-401C-4B68-8E87-13D550764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F774-9847-40AC-B612-4D74C392D1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7844-3038-4F80-8A84-57AFAB981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D6AB-8171-463A-8AC4-B60DCE803C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DF05-EA78-4D76-9B47-6EB14A566D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FE3D-477C-413F-A6A8-BFEB38B7C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B55C-E825-4839-B024-2524FDFD8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2E31-868A-40B5-8D05-5354FFCDAC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2ECD-D6D9-4B2D-9E3C-64C936EF4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EBD4-3DDC-4CA8-8E57-7F1EC3019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A1AF-268C-4975-8336-B9479459B2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74BE-3401-4B92-AE60-15F1A61763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0AA1-4EFD-4100-94E5-54312E54AA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28AD-242F-4380-A139-B110665AFA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D119-E85A-4D98-9FCC-898B240839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7C2D-68A8-4116-918A-881A43302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3B3E-673D-43DD-BB61-4FEB5BF0B0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29F2-F9F3-475E-BE8F-1E19E01BB2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5C1E-9FB5-4C2B-92DE-26D5DBB4E3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0548-8AD8-4854-9CE6-3DE80E9C21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7A61-91E0-4949-836E-01E062DE4A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FF5C-B023-4E77-B773-4DFB667AB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D544-A030-41B8-B96B-4FA778CCE4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2E1D-D65F-43EA-A235-45CBBA81C6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2477-9C5C-4059-AE9B-78845FEB0B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EEE8-A155-4C16-8976-655339873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0A18-EF39-4F6E-81C7-CB0DB30FBB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15A8-4072-4A6B-A4C0-7B822A5219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A6FE-F84F-4DB7-ADF1-57D476643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786040" y="3209760"/>
            <a:ext cx="357192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919080"/>
            <a:ext cx="8839440" cy="5019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201600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201600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003640" y="5084640"/>
            <a:ext cx="32403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1028880" y="1168560"/>
            <a:ext cx="7086600" cy="4781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258920" y="5603760"/>
            <a:ext cx="417672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59412" descr=""/>
          <p:cNvPicPr/>
          <p:nvPr/>
        </p:nvPicPr>
        <p:blipFill>
          <a:blip r:embed="rId3"/>
          <a:stretch/>
        </p:blipFill>
        <p:spPr>
          <a:xfrm>
            <a:off x="4248000" y="1643040"/>
            <a:ext cx="33051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95400" y="2319480"/>
            <a:ext cx="8953200" cy="2219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74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24:2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